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Letter from a Nebraska Farme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1496880" y="988920"/>
            <a:ext cx="7086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[Y]ou must make up your mind to see a very naked looking home at first nothing but the land covered with grass and a sod house to live in. [T]he prospect will no doubt look monotonous enough to you at first no fences (as none is needed) in sight but we have a soil rich as the richest river bottoms . . . [I]f we have health and luck we will have a beautiful home in a few years . . . all we have to do is plow up some sod (which will hang together for a half mile without breaking) cut in lengths to suit and lay up a wall &amp; cover it and you have a house. [T]o one who never seen one . . . it would seem as though they were a dirty house but they are warmer &amp; cleaner than . . . log cabins ever were.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TextBox 4"/>
          <p:cNvSpPr/>
          <p:nvPr/>
        </p:nvSpPr>
        <p:spPr>
          <a:xfrm>
            <a:off x="3173400" y="586584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etter from Uriah W. Oblinger to </a:t>
            </a:r>
            <a:endParaRPr b="0" lang="en-US" sz="1600" spc="-1" strike="noStrike">
              <a:solidFill>
                <a:srgbClr val="000000"/>
              </a:solidFill>
              <a:latin typeface="Myriad Pro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Mattie V. Oblinger and Ella Oblinger, March 9, 1873</a:t>
            </a:r>
            <a:endParaRPr b="0" lang="en-US" sz="16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1496880" y="91296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Verdan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4240080" y="49514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Myriad Pro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Sacerdote, Kevin R.</cp:lastModifiedBy>
  <dcterms:modified xsi:type="dcterms:W3CDTF">2015-09-12T19:44:1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